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9AF-AE05-4CEE-B0EF-DAA66220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6B7E-AD17-41F2-BA20-27B9956A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6F5-0D0E-4047-B466-F1B7B1D2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BA0-6412-4CD5-B027-C40A25A5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51D-C4DF-4266-84B9-B200E80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4AE-42F5-46C2-BA1C-04ECBFFE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D6D-F43A-4CDC-8D1E-2D6D3804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E0B-83C2-4438-A8B4-DB8076FF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B76-07EF-47BC-9063-B03CEA27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CA5-8895-491B-A2C3-E6D5EDB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5AA-E397-4E00-88C7-83E9CD3B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407-10BD-4037-BB8A-77E4B49E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DC5A-8E36-42C5-9061-D87430A4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240" y="1219320"/>
            <a:ext cx="906444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W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HA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MAKES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IT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F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LK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S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ONG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?</a:t>
            </a:r>
            <a:br>
              <a:rPr sz="4800"/>
            </a:b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 </a:t>
            </a: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    </a:t>
            </a:r>
            <a:r>
              <a:rPr b="1" lang="en-US" sz="3500" spc="-1" strike="noStrike" u="sng">
                <a:solidFill>
                  <a:srgbClr val="333333"/>
                </a:solidFill>
                <a:uFillTx/>
                <a:latin typeface="Georgia"/>
              </a:rPr>
              <a:t>ALL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OF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THES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MUST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B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Georgia"/>
              </a:rPr>
              <a:t>TRUE</a:t>
            </a:r>
            <a:r>
              <a:rPr b="1" lang="en-US" sz="3500" spc="-1" strike="noStrike">
                <a:solidFill>
                  <a:srgbClr val="333333"/>
                </a:solidFill>
                <a:latin typeface="Georgia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56800" y="3149640"/>
            <a:ext cx="6459480" cy="39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I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HA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NO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KNOW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COMPOSE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M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A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N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VERSIO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F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ONG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EXIST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 (W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D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ELODY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DIFFEREN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BU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TILL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RECOGNIZABL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I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SERVE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PURPOS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ITS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CULTURE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OTHER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THAN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AKING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MONEY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